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CDBFD-1125-4B5B-9605-9219C03D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00B65-581F-413C-A020-6FD65B20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32043-174F-4257-8D70-0B4C5CD6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0FEF8-F006-4480-A44E-9EF483C4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20EB-BA4A-4F48-BDEA-1EA283BE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C2E0-DCE5-48CF-A872-4E032393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6D42-E399-4CA0-B79D-129EAF5F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AC4B-B29D-420E-9361-5D6C8F56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2536-EBC9-4256-8BA5-F4FA4FE4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B9D8-0F5F-4E38-846D-DCDF5CCD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E9D5-A4E2-4B20-A74B-FE3F39F8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C8BFD-8155-433C-AB5A-281F1821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B77C-E63B-4A31-8116-A14387B8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EC46-3A7E-476E-B88E-D4994214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3131-2294-4771-9431-05BF30DF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DB42-8FF8-40DE-A35D-CD945137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BAE4-B429-450C-858D-7E0C4CF5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3D1D1-D76E-444E-AB2E-09430BDA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F77D7-4415-48C0-BDEA-2CFA1B03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029E3-FF5D-43E1-93C7-77D7C07E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DB5F5-B1A4-4DAF-84FF-DF49500F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F6FE5-46D2-4BEF-B023-27F1EDAD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2B9B2-4F3F-4524-AEE4-10F111C0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41ADD-AA8E-4C59-8DD5-1971F0B3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66EC38-2BA8-4BA5-A750-4959B5626C0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A3EF4F-C2B3-401A-936A-ACC874A46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F2A6EC-BDD7-42C4-868F-5C80C9411162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05B64-B6E1-4425-B95F-98EB286D9E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idal Energy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nny Gerr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aila Dough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ke Yos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ANd9GcQJafkpREusGfkbuDi77ywzeGEeiZo8g9Dj-fk_V_gwraFllP_DXA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tidal energy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dal energy works by the tide rushing through holes in a dam, called a barrage that have a turbine inside them that spins to power a generator producing electricity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vantag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newable resour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esn’t pollu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fter it’s built, the energy is fre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fuel is need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eap to mainta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des are predict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6" descr="ANd9GcS_Y8rGccn3IQ-Yyye0K9WNfLN8NWhYwmARdIpxGmkO5cqI9cB-1A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sadvantag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rrages are expensive to bui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fects the wildlife-fish can’t migrat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ly provides power for 10 hours during tidal activ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an “eye sore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8" descr="ANd9GcRu5-w-auFErzn_C9GGors6hqUE6OC_Y0sUUJJhIEimx67zlmBgNg"/>
          <p:cNvPicPr/>
          <p:nvPr/>
        </p:nvPicPr>
        <p:blipFill>
          <a:blip r:embed="rId1"/>
          <a:stretch/>
        </p:blipFill>
        <p:spPr>
          <a:xfrm>
            <a:off x="4495680" y="3962520"/>
            <a:ext cx="396252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causes the tid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oon is the primary cause of the ti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greater gravitational put on the ocean causes it to swell and be dragged along with movement of the moon and sun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ANd9GcTTJHyGaK6c1nm2MLw70nQmsdH_glmXZoLjFroS5jOYbYLuT-IF"/>
          <p:cNvPicPr/>
          <p:nvPr/>
        </p:nvPicPr>
        <p:blipFill>
          <a:blip r:embed="rId1"/>
          <a:stretch/>
        </p:blipFill>
        <p:spPr>
          <a:xfrm>
            <a:off x="3641760" y="3809880"/>
            <a:ext cx="5045040" cy="28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ANd9GcSrVmx0GT4XhedGbbS7iAn2XUYV-B-PVBQPIbCLoiKNcb4fNmG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e Inform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bay of Fundy moves 100 billion tons of seawater every tidal movement making it a perfect spot for the use of tidal energy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dal energy is being used in places around the world in France, Russia, Hawaii. http:/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ww.youtube.com/watch?v=tSBACzRE3Gw&amp;playnext=1&amp;list=PLB041B96A21D4084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6:51:54Z</dcterms:created>
  <dc:creator>PA Department of Education Classrooms for the Future</dc:creator>
  <dc:description/>
  <dc:language>en-US</dc:language>
  <cp:lastModifiedBy>PA Department of Education Classrooms for the Future</cp:lastModifiedBy>
  <dcterms:modified xsi:type="dcterms:W3CDTF">2011-04-27T17:25:58Z</dcterms:modified>
  <cp:revision>5</cp:revision>
  <dc:subject/>
  <dc:title>What is tidal energy?</dc:title>
</cp:coreProperties>
</file>